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C32-B9A4-44D2-ABBA-5D939BB0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656-BA59-4029-958A-C33967C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F0A-9D72-4AAD-B90E-F5612A5B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024-D959-4E87-96E0-42C204D8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D42C-0E51-4C13-AB66-FD71F637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6600-0791-4A0C-8AEC-0BD287C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1BBF-B491-413C-ABD1-0853D1D7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EE1D-2D4E-46D6-8207-3D6F7DD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416E-259F-4F3F-990B-BDBC65E2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647-B1C0-440E-8388-6CCA93B5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C77-4CA4-42AB-A613-AE3A5EC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027-5183-4A67-A0F8-3661E7BA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F43-9336-450D-AB6E-49FA39B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434-B68F-4922-BA5A-24E90F68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08E-B86A-4B7F-986B-BD08846F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03E-44C2-4F5A-996B-66406CE4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770-2D96-46C2-B9C7-4D3F7963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DD0-3E2E-4AC7-896C-B32B3285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56B-9DFF-464C-8F85-F7BB735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6A7-F7B9-4777-8894-B35DBF6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FAE-3788-471C-A90B-A5388162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84C-A192-42F7-AE57-278A7690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046-163B-4B4D-A98F-A99FFC9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E3E-5218-4DAE-9F9B-5A22DC9C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395-13AB-4E66-9C24-EE05316D6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690-1FF5-4F08-9F7B-E8602341C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Chalkboard Bold"/>
              </a:rPr>
              <a:t>Le Fut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400" y="3885840"/>
            <a:ext cx="6605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Chalkboard"/>
              </a:rPr>
              <a:t>or, saying what you shall/will do, in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halkboard"/>
              </a:rPr>
              <a:t>        </a:t>
            </a:r>
            <a:r>
              <a:rPr b="0" lang="en-US" sz="2400" spc="-1" strike="noStrike">
                <a:solidFill>
                  <a:srgbClr val="3366cc"/>
                </a:solidFill>
                <a:latin typeface="Chalkboard"/>
              </a:rPr>
              <a:t>Je mangerai des escarg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_x000e_escargots.jpeg                                                 0008DDB3_x000c_Macintosh HD                   BEF84114:"/>
          <p:cNvPicPr/>
          <p:nvPr/>
        </p:nvPicPr>
        <p:blipFill>
          <a:blip r:embed="rId1"/>
          <a:stretch/>
        </p:blipFill>
        <p:spPr>
          <a:xfrm>
            <a:off x="3429000" y="4572000"/>
            <a:ext cx="98568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L’Île de Ré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4419720"/>
            <a:ext cx="7802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À l’Île de Ré, je verrai les bateaux au port de St Martin et me promènerai dans les petites r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_x000f_Ile de Ré 2.jpg           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17575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&#13;Ile de Ré.jpg                  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 rot="5359200">
            <a:off x="571932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à vous maintenant...</a:t>
            </a:r>
            <a:br>
              <a:rPr sz="4000"/>
            </a:br>
            <a:r>
              <a:rPr b="0" i="1" lang="en-US" sz="2800" spc="-1" strike="noStrike">
                <a:solidFill>
                  <a:srgbClr val="003366"/>
                </a:solidFill>
                <a:latin typeface="Chalkboard"/>
              </a:rPr>
              <a:t>Change verbs from Present to Fu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travaille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d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in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bientô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end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s vê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attend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Qu’est-ce que v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choisissez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regarden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e ma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travaill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fin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ve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attend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oisi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regarde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halkboard"/>
              </a:rPr>
              <a:t>Same again, but with irregulars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au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par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su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act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avez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a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la vaiss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devenon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r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El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e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do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travai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"/>
              </a:rPr>
              <a:t>voi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mes a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au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e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u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e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vien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v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er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halkboard"/>
              </a:rPr>
              <a:t>Yes, it’s another tense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So far, you have learnt the Close Future Tense – le Futur Proche, using aller + infinitive, to mean “going to…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rue Future in English uses “shall” or “will” with another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rue Future in French uses a series of endings. They sort of look like the Present Tense of avoir : -ai, -as, -a, -ons, -ez, -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7673472" presetSubtype="72081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954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So, how do I form the Futur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54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regular –er &amp; -ir verbs, the endings are added to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par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je parlerai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nous parle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u parleras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vous parle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 parlera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s parler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je finirai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nous fini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tu finiras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vous finir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 finira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halkboard"/>
              </a:rPr>
              <a:t>ils finir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and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or regular –re verbs (including prendre,connaître, lire, dire, conduire), just drop the final –e of the infinitive, before adding the e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tten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’  attendrai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attend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u attendras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vous atten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  attendra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s     attend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Par exempl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dégusterai du champag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Il choisira le poulet rô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ous prendrons de TG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&#13;champagne.gif                                                  0008DDB3_x000c_Macintosh HD                   BEF84114:"/>
          <p:cNvPicPr/>
          <p:nvPr/>
        </p:nvPicPr>
        <p:blipFill>
          <a:blip r:embed="rId1"/>
          <a:stretch/>
        </p:blipFill>
        <p:spPr>
          <a:xfrm>
            <a:off x="6248520" y="20574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_x000f_poulet roti.gif                                                0008DDB3_x000c_Macintosh HD                   BEF84114:"/>
          <p:cNvPicPr/>
          <p:nvPr/>
        </p:nvPicPr>
        <p:blipFill>
          <a:blip r:embed="rId2"/>
          <a:stretch/>
        </p:blipFill>
        <p:spPr>
          <a:xfrm>
            <a:off x="6095880" y="29718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_x0008_TGV1.gif                                                       0008DDB9_x000c_Macintosh HD                   BEF84114:"/>
          <p:cNvPicPr/>
          <p:nvPr/>
        </p:nvPicPr>
        <p:blipFill>
          <a:blip r:embed="rId3"/>
          <a:stretch/>
        </p:blipFill>
        <p:spPr>
          <a:xfrm>
            <a:off x="6095880" y="38098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Comic Sans MS"/>
              </a:rPr>
              <a:t>IRREGULARS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53352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course, there are irregulars – but only the stems, not the endings! So if you learn the je form, you can do all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i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n’irai pas avec v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oi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au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n’aurai pas le te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r-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sera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serai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faire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fe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fe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ferai beauc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de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dev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dev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devrai travail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pouvoir   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pou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pourrai  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pourrai étudier à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ul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ud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oudrai  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oudrai gag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sa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sau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sau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ne saurai jam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en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iend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iendrai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viendrai vous rendre vi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oi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ve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verrai       </a:t>
            </a:r>
            <a:r>
              <a:rPr b="0" lang="fr-FR" sz="1800" spc="-1" strike="noStrike">
                <a:solidFill>
                  <a:srgbClr val="000000"/>
                </a:solidFill>
                <a:latin typeface="Chalkboard"/>
              </a:rPr>
              <a:t>Je verrai mes grands-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envoyer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enverr-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’enverrai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halkboard"/>
              </a:rPr>
              <a:t>Je t’enverrai une c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"/>
              </a:rPr>
              <a:t>N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NB : used only in i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falloir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faudr-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faudra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faudra apprendre ça!  </a:t>
            </a:r>
            <a:r>
              <a:rPr b="0" i="1" lang="fr-FR" sz="1800" spc="-1" strike="noStrike">
                <a:solidFill>
                  <a:srgbClr val="000000"/>
                </a:solidFill>
                <a:latin typeface="Chalkboard"/>
              </a:rPr>
              <a:t>We’ll have to learn th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pleuvoir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pleuvr-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pleuvra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halkboard"/>
              </a:rPr>
              <a:t>Il pleuvra demain.   </a:t>
            </a:r>
            <a:r>
              <a:rPr b="0" i="1" lang="fr-FR" sz="1800" spc="-1" strike="noStrike">
                <a:solidFill>
                  <a:srgbClr val="000000"/>
                </a:solidFill>
                <a:latin typeface="Chalkboard"/>
              </a:rPr>
              <a:t>         It’ll rain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&#9;rainy.gif                                                      0008B2EA_x000c_Macintosh HD                   BEF84114:"/>
          <p:cNvPicPr/>
          <p:nvPr/>
        </p:nvPicPr>
        <p:blipFill>
          <a:blip r:embed="rId1"/>
          <a:stretch/>
        </p:blipFill>
        <p:spPr>
          <a:xfrm>
            <a:off x="6248520" y="54100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En France, j’irai à La Rochel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visiterai le vieux port, où je verrai la Tour St Nicholas et la Tour de la Chaî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marcherai sous la Grosse Horloge, pour entrer dans le centre-v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_x001a_La Rochelle, le bassin.jpg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57196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_x001f_La Grande Horloge La #8C96B.jpg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>
            <a:off x="5719680" y="41148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halkboard Bold"/>
              </a:rPr>
              <a:t>à La Rochelle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Je passerai quelques jours au Lycée Dautet avec mon frère d’accu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De la Place Verdun, je prendrai le bus pour aller à l’Île de R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_x0016_Lycée Dautet 6 jan.jpg                                         000883D2_x000c_Macintosh HD                   BEF84114:"/>
          <p:cNvPicPr/>
          <p:nvPr/>
        </p:nvPicPr>
        <p:blipFill>
          <a:blip r:embed="rId1"/>
          <a:stretch/>
        </p:blipFill>
        <p:spPr>
          <a:xfrm>
            <a:off x="175752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_x001f_Place Verdun La Roche#8C966.jpg                                000883D2_x000c_Macintosh HD                   BEF84114:"/>
          <p:cNvPicPr/>
          <p:nvPr/>
        </p:nvPicPr>
        <p:blipFill>
          <a:blip r:embed="rId2"/>
          <a:stretch/>
        </p:blipFill>
        <p:spPr>
          <a:xfrm>
            <a:off x="1757520" y="4114800"/>
            <a:ext cx="2641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04:02:36Z</dcterms:created>
  <dc:creator>Julia Brown</dc:creator>
  <dc:description/>
  <dc:language>en-US</dc:language>
  <cp:lastModifiedBy>scollett</cp:lastModifiedBy>
  <dcterms:modified xsi:type="dcterms:W3CDTF">2010-08-31T03:21:59Z</dcterms:modified>
  <cp:revision>4</cp:revision>
  <dc:subject/>
  <dc:title>Le Futur</dc:title>
</cp:coreProperties>
</file>